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9E8-4C44-48B6-BF24-979F9381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3F2-712F-4E7E-B6E0-2C60823C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A07-176E-4DF6-8A0C-4420CD9F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D4D-0BFA-454E-B433-6F68F70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3CD4-25B4-41B7-854A-8EACF249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407F-3F08-4EC6-83ED-8A33044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B3D0-2D46-4D55-8BF6-7C000864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E1B-6E18-4A14-A74B-8CA44553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0D0-CD9D-4CFD-8A7A-F9CC7F1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C81-A426-4E0A-9E14-A8FF7D57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A31-9204-44D3-AB0A-229D8AD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A65-423A-4BC8-855E-78B2D7B9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19C-9396-4F5B-8AE7-CA1216D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414-3738-4AF8-95E4-E093221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E161-0776-4124-980F-5D4C2ED0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EB0-9148-4683-8C57-9564DB3F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2A89-F06E-406E-AD78-B0D201AE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034-7EFF-4986-ABAC-46B87C06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704-BA2F-4746-80F9-87B0CAD8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CAD-E4C9-4291-A1B2-691D66E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F91-FBCC-470C-B576-A37AE30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3FE-1751-4EFC-84BC-22B2A11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979-1954-4CF1-ADEF-9E6DC4C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76E-2171-44C8-95F1-E92519A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299_B_JuiceDro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679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BDE-349B-4438-8C53-605817AC5D15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0A72-7EB5-4978-A7F7-DAA6C31B795A}" type="slidenum">
              <a:rPr b="0" lang="en-US" sz="1400" spc="-1" strike="noStrike">
                <a:solidFill>
                  <a:srgbClr val="ffff66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Heroic Traits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n Classical Mytholog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usually a demi-god, or has a god in his family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605560" y="1828800"/>
            <a:ext cx="2993760" cy="426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715000" y="62485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llustration of the “Statue of Zeus” a public image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has some kind of super-natural power or has the strong support of a god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607000" y="1828800"/>
            <a:ext cx="29908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86400" y="6004080"/>
            <a:ext cx="3048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Munich 2360, Attic red figure pelike, c. 410 B.C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Athena and Hercules leave the funeral pyre, headed for Mount Olympus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graph copyright Staatl. Antikensammlungen und Glyptothek, München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usually on a quest. He has a task or a challenge (or more than one) that an ordinary mortal could not carry out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205080" cy="4267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867280" y="5867280"/>
            <a:ext cx="266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Bust of “Odysseus” from Marie-Lan Nguyen/Wikimedia Commons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always seeking fame, glory and most important, honor. These are more important than life itself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365800" y="1994040"/>
            <a:ext cx="3473280" cy="3936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562720" y="60958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Drawing of “Ajax”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braver, stronger, bolder and some times more clever than most men. He is close to the gods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62720" y="62485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Bust of “Perseus”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5691240" y="182880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e hero usually has a weakness, usually too much pride or a terrible temper. This can lead to problems for him, and usually to his downfall.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365800" y="2606760"/>
            <a:ext cx="3473280" cy="27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What makes a Modern Hero?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ravery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Puts others before self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trives to always “do what is right”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Honor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5675400" y="1828800"/>
            <a:ext cx="285912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5715000" y="62485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 of fireman from www.worldofstock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hat else is characteristic of  a modern day hero?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Directions:  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ith a partner, discuss what makes a person a hero?  Jot those ideas down in your Writer’s Notebook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reate your own definition of a hero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ake a list of people you and your partner would consider to be modern day hero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Be prepared to share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372280" y="1857240"/>
            <a:ext cx="3466800" cy="4210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638680" y="62485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 courtesy of wikipedia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3:02:54Z</dcterms:created>
  <dc:creator>Cody Edwards</dc:creator>
  <dc:description/>
  <dc:language>en-US</dc:language>
  <cp:lastModifiedBy>Angela Roundy</cp:lastModifiedBy>
  <dcterms:modified xsi:type="dcterms:W3CDTF">2008-10-11T06:36:00Z</dcterms:modified>
  <cp:revision>6</cp:revision>
  <dc:subject/>
  <dc:title>Hero Archetypes in Classical Mythology</dc:title>
</cp:coreProperties>
</file>